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621588" cy="5716588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FD1B-FDD6-48FD-A20B-354E6A009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C59D-43BE-418B-8766-5F245B5F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CB7E-ED4F-43E9-844B-1F82FEA0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463E-4704-4277-9481-3C09A72E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6A10-642E-4E0A-B3B5-2A0F80CC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3D37-B6FB-4C9A-B692-FA8AF6A8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EBAD-2BC4-4007-BC16-213E3D36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25BB-3C1A-4560-9EB4-052D1B25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6883-55E8-47B8-B39D-AA48F6B2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5653-D76A-4297-91ED-11D4ED6A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FDB6-4CA5-4767-827E-2C901A4E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3CF5-91A8-4918-BC19-3B4CE20A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0B06-57C9-4895-88BD-E9A4F2B871C9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pieren 9"/>
          <p:cNvGrpSpPr/>
          <p:nvPr/>
        </p:nvGrpSpPr>
        <p:grpSpPr>
          <a:xfrm>
            <a:off x="0" y="142920"/>
            <a:ext cx="7620120" cy="4948200"/>
            <a:chOff x="0" y="142920"/>
            <a:chExt cx="7620120" cy="4948200"/>
          </a:xfrm>
        </p:grpSpPr>
        <p:pic>
          <p:nvPicPr>
            <p:cNvPr id="42" name="Picture 2" descr="clipboard(1)"/>
            <p:cNvPicPr/>
            <p:nvPr/>
          </p:nvPicPr>
          <p:blipFill>
            <a:blip r:embed="rId1"/>
            <a:stretch/>
          </p:blipFill>
          <p:spPr>
            <a:xfrm>
              <a:off x="0" y="142920"/>
              <a:ext cx="7620120" cy="49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image1"/>
            <p:cNvPicPr/>
            <p:nvPr/>
          </p:nvPicPr>
          <p:blipFill>
            <a:blip r:embed="rId2"/>
            <a:stretch/>
          </p:blipFill>
          <p:spPr>
            <a:xfrm>
              <a:off x="3705120" y="1714320"/>
              <a:ext cx="23796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4" descr="image1(1)"/>
            <p:cNvPicPr/>
            <p:nvPr/>
          </p:nvPicPr>
          <p:blipFill>
            <a:blip r:embed="rId3"/>
            <a:stretch/>
          </p:blipFill>
          <p:spPr>
            <a:xfrm>
              <a:off x="3629160" y="2257560"/>
              <a:ext cx="245880" cy="2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5" descr="image1(1)"/>
            <p:cNvPicPr/>
            <p:nvPr/>
          </p:nvPicPr>
          <p:blipFill>
            <a:blip r:embed="rId4"/>
            <a:stretch/>
          </p:blipFill>
          <p:spPr>
            <a:xfrm>
              <a:off x="3314880" y="1704960"/>
              <a:ext cx="24588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Oval 6"/>
            <p:cNvSpPr/>
            <p:nvPr/>
          </p:nvSpPr>
          <p:spPr>
            <a:xfrm>
              <a:off x="3181320" y="1419120"/>
              <a:ext cx="1285920" cy="1314360"/>
            </a:xfrm>
            <a:prstGeom prst="ellipse">
              <a:avLst/>
            </a:prstGeom>
            <a:solidFill>
              <a:srgbClr val="ff0000">
                <a:alpha val="35000"/>
              </a:srgbClr>
            </a:solidFill>
            <a:ln w="38160">
              <a:solidFill>
                <a:srgbClr val="ff0000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2:19:26Z</dcterms:created>
  <dc:creator>Michael Kümin</dc:creator>
  <dc:description/>
  <dc:language>en-US</dc:language>
  <cp:lastModifiedBy>inst</cp:lastModifiedBy>
  <dcterms:modified xsi:type="dcterms:W3CDTF">2011-03-10T12:25:05Z</dcterms:modified>
  <cp:revision>2</cp:revision>
  <dc:subject/>
  <dc:title>Folie 1</dc:title>
</cp:coreProperties>
</file>